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27D-E4BC-402C-B25F-3CF1010FF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64A4-0C8E-47AA-96E6-A319F084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1B4-033B-4133-BF94-6E4D3E7BA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479-88DE-47FA-AAC3-1EE98B87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9A4E-E427-4225-B6C9-453A40E7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C6D-80BD-478A-8CFA-0513D7AA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A04-1CF9-4D02-9398-6782812BF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59CB-A90C-4CD6-BA72-66EECCBE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07E-9B12-4318-AAAA-728766B1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78FB-3566-4701-9FD4-7A04C6FF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AB2-8355-410A-80B3-D1235196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B50E-CBBC-4EA9-A5BD-8FF039A1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D6E7-C782-4317-AB9B-16D3E7E895CF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4200" y="214200"/>
          <a:ext cx="8715600" cy="635796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127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dan oldu dünya başıma.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erede bıraktım kalbimi?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Çalacak bir kapım yok.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en oradan geçmiyor.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ülkeyi tanımalısınız.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7:55:48Z</dcterms:modified>
  <cp:revision>106</cp:revision>
  <dc:subject/>
  <dc:title>KONU 1</dc:title>
</cp:coreProperties>
</file>